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8670-D42D-4E3A-B96F-E2AD95B3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226F-2899-4BFC-87E0-31C89790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54CCB-B95E-4174-B6B7-A400AA79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DD3D4-B00C-4F35-BDC9-7DFAD6CE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3E62B-71D3-426F-ABB7-4E1EDF63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5C7F6-468E-4153-9502-B2F00B7A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D6742-8AC1-46DB-8013-9835AA31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02C4C-3633-4643-B146-958FFABC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B6C50-262B-4074-91E6-AAFFEDE1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50297-84BD-4C2B-98FB-F1582B21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C2C33-F6A2-40C1-9E78-273A9622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F479-1C46-4896-9740-370DC280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6C16-38B5-45E3-97A0-7786893A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496E-85C5-49E7-B63A-351BFE8A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FDFE-DB2F-4A66-AEFD-74BE9B2A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CDE0-5AFA-4A14-A3DE-C81D1AF4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396B-B975-46E4-B5AE-74111F22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2399-31E2-48CE-98C5-4345E628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FE38-E7CA-47DB-83D6-E3083BF5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2497-C78D-4204-A35A-444BAF93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DA43-3055-4383-8A0E-C53D45B6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E732-A9B3-4669-9320-BB3034E4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A8FC-34F9-49C7-B1A4-3D75B193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6B2C-8BC8-4E3C-B8D2-EE1AE7A9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26C3-6560-481C-8525-298A6B49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0BB6-2E5E-4D62-8ECC-EC66FC38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35502-B472-45A1-905C-A34C91BD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B4FB8-6686-4ABA-B6DD-D1A3116E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D8E45-6196-4EC7-A2A2-2E3FA69C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67882-950A-4E2D-8474-95FDD15A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1D165-24DC-418B-9E50-948AB08C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C5C4-C5F5-40EF-A753-C61EE1E7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44D8C-CC90-44FC-882A-D5A91E2F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38664-72F5-411E-9134-A04DA04C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FFEEE-2629-40E2-A8CD-959F8CDE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C21D7-9DC5-401D-AEFC-69623D6F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AE605-DD89-4CA2-9462-CD18080F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A8235-6004-41BA-9802-0E0979FF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11540-FAA3-4DC8-84FC-93277209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35345-C67B-425E-A703-F8E22D32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D235E-BA00-4E9D-930A-53C91D0B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DECA2-39BA-4418-A013-06C2455A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1846-C9C1-4676-8066-86E94EAA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35722-1895-4A49-9CB4-8D84E0FD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E43BD-FE3D-48B3-90CA-63643EDF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6D5B2-0C88-4C19-A772-3FFE3F45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5720B-1687-4017-8F87-470C4559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6B6CC-58A2-40F5-8400-05EE22CD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DE4C5-86AF-4263-BA9E-DB3D5887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19B46-0E07-4698-BDA1-847A398E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AF818-13C7-47FE-B9DB-EC808A31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F528A-A78D-4873-AD65-5C9E29A0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59D66-F084-4877-81FE-4010AF45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7C37-D302-4C0C-B067-C8EC14DB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A782E-A837-4BE8-ADE6-EB3B1723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A6A5A-9EC6-49F0-B82D-A751C15C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EC8AD-5F6D-48A3-9F52-7257C7A7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541F6-4F4C-41D4-A465-7601E57F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743FB-4234-412A-ACF3-C251A177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890E0-4828-4E21-8E50-5FCCA49B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DB227-7C5B-4CFC-8B9E-6A22362D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95EB1-CA6A-45F1-A41B-975DDAB7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3C174-5CF9-431A-9C14-2FC3C4E5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028CF-EE0C-4AD7-BDE2-2DBF0663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FE80-7182-4631-81B0-9D2D0A36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6F653-9446-4338-9D4B-77476DAB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29229-85E8-4A75-9AE0-A276EF52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AF545-2A18-4083-BCA9-46D751B2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48CC4-EDF1-443E-BB0C-15EF4FDA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6300E-C0EC-4775-9B94-42FA0D8B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ABE9A-A274-4028-BAC7-F36A0654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CE92A-7B7F-4837-8925-62A6558E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E3382-DE13-49B3-8AF9-5655812A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0DF19-FA3E-4582-BE75-213E8586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D36CC-50A9-4458-BF68-D79DD87D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E0FD-E4BF-470E-8FCB-0624B876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BC81D-7F13-40E0-956A-29CE5651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5D266-4F46-4D80-BDE1-81081022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EE070-06C4-48E9-B719-EBD10D623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B179D-EA77-40C6-A0A2-755F21BB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0907B-B15D-4A35-A9B9-CAC245AE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F4986-28F5-4F0A-9DAB-C542EEF0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7724F-4328-4635-BB78-9CFDB544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721DB-1832-457E-BD32-D7CD6EB5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A2793-7ECD-406D-9955-7060C1BC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9EA8D-919D-484E-AAA8-15C4A118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0AA7-47B7-4A49-819B-9C505519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E93E9-D174-4032-8816-71567DBC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3CC15-CFCF-4BA6-B968-EF612598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FEC48-2D24-471C-A981-3D33263C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4FF38-CD99-4719-9763-E7AC0436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BD3FF-C613-436A-A815-67AF2F79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34C8E-EE94-4C85-BFCB-0D1EA1AA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8E99F-2181-490B-BB23-CEC5E795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5F59A-45ED-481D-AF34-6E184C7E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70CFA-1409-4B3A-B687-3136B822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949D8-6AB2-419D-8E62-977A521B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1E8F-655A-480D-9A37-B9EE1A23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6953D-E6C7-4D42-946B-165CBDC4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C9432-1583-43EB-8093-8932F2CC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4E513-5EA7-4A45-A0E6-1AF099BB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C6570-2357-4E2D-8076-65A9E650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B3E40-1543-48DE-8A36-1DF78E18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13717-FF59-4E48-9ADD-2DDCA7CB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03FF8-7B1A-41E8-8E12-7FB8E62D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35A0A-A498-4109-93BC-83C78BC2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16F41-3486-4B76-8B8A-9F82A637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261E9-83AD-48C2-A8CE-B3A681CD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Connecteur droit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Connecteur droit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1A6A-9A31-49C4-AD04-5C38C2AE6CD5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Connecteur droit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Connecteur droit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Connecteur droit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Connecteur droit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Connecteur droit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458A-BFE6-4880-8A9C-4EF3182778B1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Connecteur droit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Connecteur droit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Connecteur droit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Connecteur droit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Connecteur droit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Connecteur droit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0C0C-A7CA-4F4C-8F4C-D9AC8A9A6A15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Connecteur droit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DADB-3829-4476-A1AF-B7608A5D7772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Connecteur droit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307D-7CB4-42E0-8EF0-5FC8D3EC8862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258F-ADA7-495D-A105-0BE1960B3B27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Connecteur droit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DC71-BF23-49B6-B89D-96AB414FED56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2A50-0639-434C-B713-B2B7FCB12E83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DE40-7517-49BB-98D7-E32D126B4C11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re 3" descr=""/>
          <p:cNvPicPr/>
          <p:nvPr/>
        </p:nvPicPr>
        <p:blipFill>
          <a:blip r:embed="rId1"/>
          <a:stretch/>
        </p:blipFill>
        <p:spPr>
          <a:xfrm>
            <a:off x="512640" y="622440"/>
            <a:ext cx="7979040" cy="1566720"/>
          </a:xfrm>
          <a:prstGeom prst="rect">
            <a:avLst/>
          </a:prstGeom>
          <a:ln w="0">
            <a:noFill/>
          </a:ln>
        </p:spPr>
      </p:pic>
      <p:pic>
        <p:nvPicPr>
          <p:cNvPr id="400" name="Image 6" descr="D:\philippe collège\B InSight\activité sismo proposition\20190421_191646.jpg"/>
          <p:cNvPicPr/>
          <p:nvPr/>
        </p:nvPicPr>
        <p:blipFill>
          <a:blip r:embed="rId2"/>
          <a:stretch/>
        </p:blipFill>
        <p:spPr>
          <a:xfrm>
            <a:off x="1785960" y="1857240"/>
            <a:ext cx="514332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2" name="Image 4" descr="D:\philippe collège\B InSight\activité sismo proposition\avec bois.JPG"/>
          <p:cNvPicPr/>
          <p:nvPr/>
        </p:nvPicPr>
        <p:blipFill>
          <a:blip r:embed="rId2"/>
          <a:stretch/>
        </p:blipFill>
        <p:spPr>
          <a:xfrm>
            <a:off x="928800" y="3500280"/>
            <a:ext cx="7286400" cy="3214800"/>
          </a:xfrm>
          <a:prstGeom prst="rect">
            <a:avLst/>
          </a:prstGeom>
          <a:ln w="0">
            <a:noFill/>
          </a:ln>
        </p:spPr>
      </p:pic>
      <p:pic>
        <p:nvPicPr>
          <p:cNvPr id="403" name="Image 5" descr="D:\philippe collège\B InSight\activité sismo proposition\20190425_150526.jpg"/>
          <p:cNvPicPr/>
          <p:nvPr/>
        </p:nvPicPr>
        <p:blipFill>
          <a:blip r:embed="rId3"/>
          <a:stretch/>
        </p:blipFill>
        <p:spPr>
          <a:xfrm>
            <a:off x="4643280" y="357120"/>
            <a:ext cx="3500640" cy="2857680"/>
          </a:xfrm>
          <a:prstGeom prst="rect">
            <a:avLst/>
          </a:prstGeom>
          <a:ln w="0">
            <a:noFill/>
          </a:ln>
        </p:spPr>
      </p:pic>
      <p:grpSp>
        <p:nvGrpSpPr>
          <p:cNvPr id="404" name="Groupe 8"/>
          <p:cNvGrpSpPr/>
          <p:nvPr/>
        </p:nvGrpSpPr>
        <p:grpSpPr>
          <a:xfrm>
            <a:off x="357120" y="4214880"/>
            <a:ext cx="642960" cy="1857240"/>
            <a:chOff x="357120" y="4214880"/>
            <a:chExt cx="642960" cy="1857240"/>
          </a:xfrm>
        </p:grpSpPr>
        <p:sp>
          <p:nvSpPr>
            <p:cNvPr id="405" name="Ellipse 6"/>
            <p:cNvSpPr/>
            <p:nvPr/>
          </p:nvSpPr>
          <p:spPr>
            <a:xfrm>
              <a:off x="357120" y="4214880"/>
              <a:ext cx="64296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06" name="Ellipse 7"/>
            <p:cNvSpPr/>
            <p:nvPr/>
          </p:nvSpPr>
          <p:spPr>
            <a:xfrm>
              <a:off x="357120" y="5429160"/>
              <a:ext cx="64296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D:\philippe collège\B InSight\activité sismo proposition\avec caoutchouc.JPG"/>
          <p:cNvPicPr/>
          <p:nvPr/>
        </p:nvPicPr>
        <p:blipFill>
          <a:blip r:embed="rId2"/>
          <a:stretch/>
        </p:blipFill>
        <p:spPr>
          <a:xfrm>
            <a:off x="1071720" y="3214800"/>
            <a:ext cx="7172280" cy="3332160"/>
          </a:xfrm>
          <a:prstGeom prst="rect">
            <a:avLst/>
          </a:prstGeom>
          <a:ln w="0">
            <a:noFill/>
          </a:ln>
        </p:spPr>
      </p:pic>
      <p:pic>
        <p:nvPicPr>
          <p:cNvPr id="409" name="Image 4" descr="D:\philippe collège\B InSight\activité sismo proposition\20190425_150335.jpg"/>
          <p:cNvPicPr/>
          <p:nvPr/>
        </p:nvPicPr>
        <p:blipFill>
          <a:blip r:embed="rId3"/>
          <a:stretch/>
        </p:blipFill>
        <p:spPr>
          <a:xfrm>
            <a:off x="5000760" y="357120"/>
            <a:ext cx="3198600" cy="2571840"/>
          </a:xfrm>
          <a:prstGeom prst="rect">
            <a:avLst/>
          </a:prstGeom>
          <a:ln w="0">
            <a:noFill/>
          </a:ln>
        </p:spPr>
      </p:pic>
      <p:grpSp>
        <p:nvGrpSpPr>
          <p:cNvPr id="410" name="Groupe 5"/>
          <p:cNvGrpSpPr/>
          <p:nvPr/>
        </p:nvGrpSpPr>
        <p:grpSpPr>
          <a:xfrm>
            <a:off x="571680" y="4071960"/>
            <a:ext cx="642600" cy="1857240"/>
            <a:chOff x="571680" y="4071960"/>
            <a:chExt cx="642600" cy="1857240"/>
          </a:xfrm>
        </p:grpSpPr>
        <p:sp>
          <p:nvSpPr>
            <p:cNvPr id="411" name="Ellipse 6"/>
            <p:cNvSpPr/>
            <p:nvPr/>
          </p:nvSpPr>
          <p:spPr>
            <a:xfrm>
              <a:off x="571680" y="4071960"/>
              <a:ext cx="64260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12" name="Ellipse 7"/>
            <p:cNvSpPr/>
            <p:nvPr/>
          </p:nvSpPr>
          <p:spPr>
            <a:xfrm>
              <a:off x="571680" y="5286240"/>
              <a:ext cx="64260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D:\philippe collège\B InSight\activité sismo proposition\avec ressorts.JPG"/>
          <p:cNvPicPr/>
          <p:nvPr/>
        </p:nvPicPr>
        <p:blipFill>
          <a:blip r:embed="rId2"/>
          <a:stretch/>
        </p:blipFill>
        <p:spPr>
          <a:xfrm>
            <a:off x="857160" y="3429000"/>
            <a:ext cx="7358040" cy="3143160"/>
          </a:xfrm>
          <a:prstGeom prst="rect">
            <a:avLst/>
          </a:prstGeom>
          <a:ln w="0">
            <a:noFill/>
          </a:ln>
        </p:spPr>
      </p:pic>
      <p:pic>
        <p:nvPicPr>
          <p:cNvPr id="415" name="Image 4" descr="D:\philippe collège\B InSight\activité sismo proposition\20190425_150434.jpg"/>
          <p:cNvPicPr/>
          <p:nvPr/>
        </p:nvPicPr>
        <p:blipFill>
          <a:blip r:embed="rId3"/>
          <a:stretch/>
        </p:blipFill>
        <p:spPr>
          <a:xfrm>
            <a:off x="4786200" y="285840"/>
            <a:ext cx="3389400" cy="2786040"/>
          </a:xfrm>
          <a:prstGeom prst="rect">
            <a:avLst/>
          </a:prstGeom>
          <a:ln w="0">
            <a:noFill/>
          </a:ln>
        </p:spPr>
      </p:pic>
      <p:grpSp>
        <p:nvGrpSpPr>
          <p:cNvPr id="416" name="Groupe 5"/>
          <p:cNvGrpSpPr/>
          <p:nvPr/>
        </p:nvGrpSpPr>
        <p:grpSpPr>
          <a:xfrm>
            <a:off x="357120" y="4214880"/>
            <a:ext cx="642960" cy="1857240"/>
            <a:chOff x="357120" y="4214880"/>
            <a:chExt cx="642960" cy="1857240"/>
          </a:xfrm>
        </p:grpSpPr>
        <p:sp>
          <p:nvSpPr>
            <p:cNvPr id="417" name="Ellipse 6"/>
            <p:cNvSpPr/>
            <p:nvPr/>
          </p:nvSpPr>
          <p:spPr>
            <a:xfrm>
              <a:off x="357120" y="4214880"/>
              <a:ext cx="64296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18" name="Ellipse 7"/>
            <p:cNvSpPr/>
            <p:nvPr/>
          </p:nvSpPr>
          <p:spPr>
            <a:xfrm>
              <a:off x="357120" y="5429160"/>
              <a:ext cx="64296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D:\philippe collège\B InSight\activité sismo proposition\avec sable.JPG"/>
          <p:cNvPicPr/>
          <p:nvPr/>
        </p:nvPicPr>
        <p:blipFill>
          <a:blip r:embed="rId2"/>
          <a:stretch/>
        </p:blipFill>
        <p:spPr>
          <a:xfrm>
            <a:off x="857160" y="3500280"/>
            <a:ext cx="7429680" cy="306072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e 4"/>
          <p:cNvGrpSpPr/>
          <p:nvPr/>
        </p:nvGrpSpPr>
        <p:grpSpPr>
          <a:xfrm>
            <a:off x="357120" y="4214880"/>
            <a:ext cx="642960" cy="1857240"/>
            <a:chOff x="357120" y="4214880"/>
            <a:chExt cx="642960" cy="1857240"/>
          </a:xfrm>
        </p:grpSpPr>
        <p:sp>
          <p:nvSpPr>
            <p:cNvPr id="422" name="Ellipse 5"/>
            <p:cNvSpPr/>
            <p:nvPr/>
          </p:nvSpPr>
          <p:spPr>
            <a:xfrm>
              <a:off x="357120" y="4214880"/>
              <a:ext cx="64296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23" name="Ellipse 6"/>
            <p:cNvSpPr/>
            <p:nvPr/>
          </p:nvSpPr>
          <p:spPr>
            <a:xfrm>
              <a:off x="357120" y="5429160"/>
              <a:ext cx="64296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424" name="Image 7" descr="D:\philippe collège\B InSight\activité sismo proposition\20190425_151004.jpg"/>
          <p:cNvPicPr/>
          <p:nvPr/>
        </p:nvPicPr>
        <p:blipFill>
          <a:blip r:embed="rId3"/>
          <a:stretch/>
        </p:blipFill>
        <p:spPr>
          <a:xfrm>
            <a:off x="4786200" y="285840"/>
            <a:ext cx="3484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5T20:42:31Z</dcterms:created>
  <dc:creator>pht</dc:creator>
  <dc:description/>
  <dc:language>en-US</dc:language>
  <cp:lastModifiedBy>pht</cp:lastModifiedBy>
  <dcterms:modified xsi:type="dcterms:W3CDTF">2019-04-25T21:07:46Z</dcterms:modified>
  <cp:revision>7</cp:revision>
  <dc:subject/>
  <dc:title>Quelques réponses en images</dc:title>
</cp:coreProperties>
</file>