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3.wmf" ContentType="image/x-wmf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E455-9844-4C44-B0FE-1CBF66A9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DF1-45DE-473F-812A-3F7A6EE1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060B-EF5C-4C15-A75B-48EA020A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FB8-29F2-44F2-8DA7-DA234CF6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CD4D-79DE-4A55-B180-B168531D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6EB2-3256-4AC8-BF85-B36DA878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E3FF-9040-4EE7-987E-4660C284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CFAE-824C-42A9-BBE1-C6361440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3580-3EEB-4B70-BA9A-B0CB3F27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89D1-01D4-4F48-A0AA-E257739C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04C4-07C2-42DE-A5D9-B078BAC0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66B5-C6EB-46CD-897D-7B67CAE6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23D8-0DB8-4656-B4F4-DBB9DC33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E53B-C45E-45C3-8B3B-12C6BA29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C15F-5AAB-4776-8D7B-A8C677BE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FA22-7B3E-4BB3-9313-2265FA05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A6B2-ADEC-4311-9882-66D0AA10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C14-D40D-432B-9D95-931722BA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3049-26AF-4359-BDC5-89799705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384-946B-4213-877A-14DBDBE9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9D3-9BCE-479B-8009-85A72771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B74-A6A7-4E2C-B648-9AAB3ADB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26D-B552-4316-AE48-E2B65846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1E53-3A49-48C3-8E5B-9EB9BC60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020A-A9B9-48DC-B75E-80E063DA471E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4293-8387-42C7-8344-FB34A54CD7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6E74-0345-4CF1-B7FB-D25C4468DF71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B0FE-3F5B-4C6B-8D87-9BBD63C8BFC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ritmindustry.com/" TargetMode="External"/><Relationship Id="rId4" Type="http://schemas.openxmlformats.org/officeDocument/2006/relationships/hyperlink" Target="https://web-japan.org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1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3"/>
          <p:cNvGrpSpPr/>
          <p:nvPr/>
        </p:nvGrpSpPr>
        <p:grpSpPr>
          <a:xfrm>
            <a:off x="3214800" y="3286080"/>
            <a:ext cx="237960" cy="382320"/>
            <a:chOff x="3214800" y="3286080"/>
            <a:chExt cx="237960" cy="382320"/>
          </a:xfrm>
        </p:grpSpPr>
        <p:sp>
          <p:nvSpPr>
            <p:cNvPr id="125" name="Oval 44"/>
            <p:cNvSpPr/>
            <p:nvPr/>
          </p:nvSpPr>
          <p:spPr>
            <a:xfrm>
              <a:off x="3215520" y="328608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26" name="AutoShape 45"/>
            <p:cNvCxnSpPr/>
            <p:nvPr/>
          </p:nvCxnSpPr>
          <p:spPr>
            <a:xfrm>
              <a:off x="3214800" y="337140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27" name="AutoShape 46"/>
            <p:cNvCxnSpPr/>
            <p:nvPr/>
          </p:nvCxnSpPr>
          <p:spPr>
            <a:xfrm flipH="1">
              <a:off x="3430800" y="3367080"/>
              <a:ext cx="21960" cy="2520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28" name="Arc 47"/>
            <p:cNvSpPr/>
            <p:nvPr/>
          </p:nvSpPr>
          <p:spPr>
            <a:xfrm rot="5232600">
              <a:off x="3306600" y="353988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29" name="Group 43"/>
          <p:cNvGrpSpPr/>
          <p:nvPr/>
        </p:nvGrpSpPr>
        <p:grpSpPr>
          <a:xfrm>
            <a:off x="2857680" y="3571920"/>
            <a:ext cx="237960" cy="381960"/>
            <a:chOff x="2857680" y="3571920"/>
            <a:chExt cx="237960" cy="381960"/>
          </a:xfrm>
        </p:grpSpPr>
        <p:sp>
          <p:nvSpPr>
            <p:cNvPr id="130" name="Oval 44"/>
            <p:cNvSpPr/>
            <p:nvPr/>
          </p:nvSpPr>
          <p:spPr>
            <a:xfrm>
              <a:off x="2858400" y="357192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1" name="AutoShape 45"/>
            <p:cNvCxnSpPr/>
            <p:nvPr/>
          </p:nvCxnSpPr>
          <p:spPr>
            <a:xfrm>
              <a:off x="28576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32" name="AutoShape 46"/>
            <p:cNvCxnSpPr/>
            <p:nvPr/>
          </p:nvCxnSpPr>
          <p:spPr>
            <a:xfrm flipH="1">
              <a:off x="307368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33" name="Arc 47"/>
            <p:cNvSpPr/>
            <p:nvPr/>
          </p:nvSpPr>
          <p:spPr>
            <a:xfrm rot="5232600">
              <a:off x="29494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34" name="Rectangle 1"/>
          <p:cNvSpPr/>
          <p:nvPr/>
        </p:nvSpPr>
        <p:spPr>
          <a:xfrm>
            <a:off x="1000080" y="214200"/>
            <a:ext cx="77151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En comparant nos tests, nous pouvons proposer le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solutions technologiqu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suivantes pour résoudre notre problème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5" name="Image 42" descr="D:\philippe collège\B InSight\activité sismo proposition\avec caoutchouc.JPG"/>
          <p:cNvPicPr/>
          <p:nvPr/>
        </p:nvPicPr>
        <p:blipFill>
          <a:blip r:embed="rId1"/>
          <a:stretch/>
        </p:blipFill>
        <p:spPr>
          <a:xfrm>
            <a:off x="1428840" y="414324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136" name="Image 5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5214960" y="4143240"/>
            <a:ext cx="3214800" cy="235764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43"/>
          <p:cNvGrpSpPr/>
          <p:nvPr/>
        </p:nvGrpSpPr>
        <p:grpSpPr>
          <a:xfrm>
            <a:off x="2143080" y="3571920"/>
            <a:ext cx="238320" cy="381960"/>
            <a:chOff x="2143080" y="3571920"/>
            <a:chExt cx="238320" cy="381960"/>
          </a:xfrm>
        </p:grpSpPr>
        <p:sp>
          <p:nvSpPr>
            <p:cNvPr id="138" name="Oval 44"/>
            <p:cNvSpPr/>
            <p:nvPr/>
          </p:nvSpPr>
          <p:spPr>
            <a:xfrm>
              <a:off x="2143800" y="3571920"/>
              <a:ext cx="23760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9" name="AutoShape 45"/>
            <p:cNvCxnSpPr/>
            <p:nvPr/>
          </p:nvCxnSpPr>
          <p:spPr>
            <a:xfrm>
              <a:off x="21430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40" name="AutoShape 46"/>
            <p:cNvCxnSpPr/>
            <p:nvPr/>
          </p:nvCxnSpPr>
          <p:spPr>
            <a:xfrm flipH="1">
              <a:off x="235944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41" name="Arc 47"/>
            <p:cNvSpPr/>
            <p:nvPr/>
          </p:nvSpPr>
          <p:spPr>
            <a:xfrm rot="5232600">
              <a:off x="22348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42" name="Group 20"/>
          <p:cNvGrpSpPr/>
          <p:nvPr/>
        </p:nvGrpSpPr>
        <p:grpSpPr>
          <a:xfrm>
            <a:off x="2143080" y="1785960"/>
            <a:ext cx="1285920" cy="1928880"/>
            <a:chOff x="2143080" y="1785960"/>
            <a:chExt cx="1285920" cy="1928880"/>
          </a:xfrm>
        </p:grpSpPr>
        <p:sp>
          <p:nvSpPr>
            <p:cNvPr id="143" name="AutoShape 21"/>
            <p:cNvSpPr/>
            <p:nvPr/>
          </p:nvSpPr>
          <p:spPr>
            <a:xfrm>
              <a:off x="2143080" y="1785960"/>
              <a:ext cx="128592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44" name="Zone de texte 2"/>
            <p:cNvSpPr/>
            <p:nvPr/>
          </p:nvSpPr>
          <p:spPr>
            <a:xfrm>
              <a:off x="249876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45" name="Group 23"/>
            <p:cNvGrpSpPr/>
            <p:nvPr/>
          </p:nvGrpSpPr>
          <p:grpSpPr>
            <a:xfrm>
              <a:off x="2320920" y="2392200"/>
              <a:ext cx="571680" cy="807120"/>
              <a:chOff x="2320920" y="2392200"/>
              <a:chExt cx="571680" cy="807120"/>
            </a:xfrm>
          </p:grpSpPr>
          <p:sp>
            <p:nvSpPr>
              <p:cNvPr id="146" name="Rectangle 24"/>
              <p:cNvSpPr/>
              <p:nvPr/>
            </p:nvSpPr>
            <p:spPr>
              <a:xfrm>
                <a:off x="232092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7" name="Rectangle 25"/>
              <p:cNvSpPr/>
              <p:nvPr/>
            </p:nvSpPr>
            <p:spPr>
              <a:xfrm>
                <a:off x="232092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8" name="Rectangle 26"/>
              <p:cNvSpPr/>
              <p:nvPr/>
            </p:nvSpPr>
            <p:spPr>
              <a:xfrm>
                <a:off x="270180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9" name="Rectangle 27"/>
              <p:cNvSpPr/>
              <p:nvPr/>
            </p:nvSpPr>
            <p:spPr>
              <a:xfrm>
                <a:off x="270180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Freeform 48"/>
          <p:cNvSpPr/>
          <p:nvPr/>
        </p:nvSpPr>
        <p:spPr>
          <a:xfrm>
            <a:off x="557208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Freeform 48"/>
          <p:cNvSpPr/>
          <p:nvPr/>
        </p:nvSpPr>
        <p:spPr>
          <a:xfrm>
            <a:off x="635796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Freeform 48"/>
          <p:cNvSpPr/>
          <p:nvPr/>
        </p:nvSpPr>
        <p:spPr>
          <a:xfrm>
            <a:off x="6715080" y="3357720"/>
            <a:ext cx="357120" cy="323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5643720" y="1785960"/>
            <a:ext cx="1285560" cy="1928880"/>
            <a:chOff x="5643720" y="1785960"/>
            <a:chExt cx="1285560" cy="1928880"/>
          </a:xfrm>
        </p:grpSpPr>
        <p:sp>
          <p:nvSpPr>
            <p:cNvPr id="154" name="AutoShape 21"/>
            <p:cNvSpPr/>
            <p:nvPr/>
          </p:nvSpPr>
          <p:spPr>
            <a:xfrm>
              <a:off x="5643720" y="1785960"/>
              <a:ext cx="128556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55" name="Zone de texte 2"/>
            <p:cNvSpPr/>
            <p:nvPr/>
          </p:nvSpPr>
          <p:spPr>
            <a:xfrm>
              <a:off x="599940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56" name="Group 23"/>
            <p:cNvGrpSpPr/>
            <p:nvPr/>
          </p:nvGrpSpPr>
          <p:grpSpPr>
            <a:xfrm>
              <a:off x="5821560" y="2392200"/>
              <a:ext cx="571680" cy="807120"/>
              <a:chOff x="5821560" y="2392200"/>
              <a:chExt cx="571680" cy="807120"/>
            </a:xfrm>
          </p:grpSpPr>
          <p:sp>
            <p:nvSpPr>
              <p:cNvPr id="157" name="Rectangle 24"/>
              <p:cNvSpPr/>
              <p:nvPr/>
            </p:nvSpPr>
            <p:spPr>
              <a:xfrm>
                <a:off x="582156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8" name="Rectangle 25"/>
              <p:cNvSpPr/>
              <p:nvPr/>
            </p:nvSpPr>
            <p:spPr>
              <a:xfrm>
                <a:off x="582156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9" name="Rectangle 26"/>
              <p:cNvSpPr/>
              <p:nvPr/>
            </p:nvSpPr>
            <p:spPr>
              <a:xfrm>
                <a:off x="620244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60" name="Rectangle 27"/>
              <p:cNvSpPr/>
              <p:nvPr/>
            </p:nvSpPr>
            <p:spPr>
              <a:xfrm>
                <a:off x="620244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5"/>
          <p:cNvSpPr/>
          <p:nvPr/>
        </p:nvSpPr>
        <p:spPr>
          <a:xfrm>
            <a:off x="3214800" y="371484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215120" y="3786120"/>
            <a:ext cx="15508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928800" y="478620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A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28800" y="578628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B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66" name="Picture 5" descr="http://laurent.mougel1.free.fr/prevention_seismes_fichiers/amortisseur_01.jpg"/>
          <p:cNvPicPr/>
          <p:nvPr/>
        </p:nvPicPr>
        <p:blipFill>
          <a:blip r:embed="rId1"/>
          <a:stretch/>
        </p:blipFill>
        <p:spPr>
          <a:xfrm>
            <a:off x="1000080" y="2786040"/>
            <a:ext cx="3695760" cy="2714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laurent.mougel1.free.fr/prevention_seismes_fichiers/amortisseur_02.jpg"/>
          <p:cNvPicPr/>
          <p:nvPr/>
        </p:nvPicPr>
        <p:blipFill>
          <a:blip r:embed="rId2"/>
          <a:stretch/>
        </p:blipFill>
        <p:spPr>
          <a:xfrm>
            <a:off x="5072040" y="2786040"/>
            <a:ext cx="3645000" cy="2714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110040" y="207180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928800" y="5643720"/>
            <a:ext cx="79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3"/>
              </a:rPr>
              <a:t>http://ritmindustry.com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4"/>
              </a:rPr>
              <a:t>https://web-japan.org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00080" y="19288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mortisseur parasismique en caoutchouc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2" name="Flèche vers le bas 9"/>
          <p:cNvSpPr/>
          <p:nvPr/>
        </p:nvSpPr>
        <p:spPr>
          <a:xfrm rot="12606000">
            <a:off x="2303280" y="3933360"/>
            <a:ext cx="285480" cy="10000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Flèche vers le bas 10"/>
          <p:cNvSpPr/>
          <p:nvPr/>
        </p:nvSpPr>
        <p:spPr>
          <a:xfrm rot="12606000">
            <a:off x="5803920" y="4076640"/>
            <a:ext cx="285840" cy="1000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071720" y="17146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ans la réalité il faut aussi rendre le bâtiment plus rigid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76" name="Picture 2" descr="https://files1.structurae.de/files/photos/5256/2015-06-01/dsc06111.jpg"/>
          <p:cNvPicPr/>
          <p:nvPr/>
        </p:nvPicPr>
        <p:blipFill>
          <a:blip r:embed="rId1"/>
          <a:stretch/>
        </p:blipFill>
        <p:spPr>
          <a:xfrm>
            <a:off x="1428840" y="2643120"/>
            <a:ext cx="2786040" cy="3322800"/>
          </a:xfrm>
          <a:prstGeom prst="rect">
            <a:avLst/>
          </a:prstGeom>
          <a:ln w="0">
            <a:noFill/>
          </a:ln>
        </p:spPr>
      </p:pic>
      <p:pic>
        <p:nvPicPr>
          <p:cNvPr id="177" name="fancybox-img" descr="Renforcement sismique du collège de Dillon 1 - Fort-de-France (Martinique)"/>
          <p:cNvPicPr/>
          <p:nvPr/>
        </p:nvPicPr>
        <p:blipFill>
          <a:blip r:embed="rId2"/>
          <a:stretch/>
        </p:blipFill>
        <p:spPr>
          <a:xfrm>
            <a:off x="5429160" y="2643120"/>
            <a:ext cx="2500560" cy="3346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195640" y="2719800"/>
            <a:ext cx="47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928800" y="6000120"/>
            <a:ext cx="785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John Hancock Center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(© Nicolas Janberg,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Renforcement sismique du collège de Dillon 11 juin 2015,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(usage personnel/éducatif))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- Fort-de-France (Martinique)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000080" y="428760"/>
            <a:ext cx="7786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écontextualisée</a:t>
            </a:r>
            <a:r>
              <a:rPr b="1" lang="fr-FR" sz="2400" spc="-1" strike="noStrike">
                <a:solidFill>
                  <a:srgbClr val="402000"/>
                </a:solidFill>
                <a:latin typeface="Arial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Proposée par l’enseignant en classe de 6e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939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mage 1" descr=""/>
          <p:cNvPicPr/>
          <p:nvPr/>
        </p:nvPicPr>
        <p:blipFill>
          <a:blip r:embed="rId1"/>
          <a:stretch/>
        </p:blipFill>
        <p:spPr>
          <a:xfrm>
            <a:off x="3786120" y="4643280"/>
            <a:ext cx="2286000" cy="5241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000080" y="1874520"/>
            <a:ext cx="7929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IDIER Benjamin – TIRET Philip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fesseurs de Sciences et Technologi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llège Michelet TOUR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2000"/>
                </a:solidFill>
                <a:latin typeface="Arial"/>
              </a:rPr>
              <a:t>Académie Orléans-Tours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1000080" y="64296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réalisée par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15 photos déchirantes avant et après montrent le ravage du séisme en Italie"/>
          <p:cNvPicPr/>
          <p:nvPr/>
        </p:nvPicPr>
        <p:blipFill>
          <a:blip r:embed="rId1"/>
          <a:stretch/>
        </p:blipFill>
        <p:spPr>
          <a:xfrm>
            <a:off x="1000080" y="1643040"/>
            <a:ext cx="7775640" cy="2357640"/>
          </a:xfrm>
          <a:prstGeom prst="rect">
            <a:avLst/>
          </a:prstGeom>
          <a:ln w="0">
            <a:noFill/>
          </a:ln>
        </p:spPr>
      </p:pic>
      <p:pic>
        <p:nvPicPr>
          <p:cNvPr id="91" name="Image 7" descr="http://3.bp.blogspot.com/_CkL4BVApd3Q/S06q3B5qQyI/AAAAAAAABcE/SyCS7QrDsEk/s1600/Haiti_Palais-national_avant-et-apr%25C3%25A8s_seisme_AP-APF-et%2BBBC_130110.jpg"/>
          <p:cNvPicPr/>
          <p:nvPr/>
        </p:nvPicPr>
        <p:blipFill>
          <a:blip r:embed="rId2"/>
          <a:stretch/>
        </p:blipFill>
        <p:spPr>
          <a:xfrm>
            <a:off x="1000080" y="4071960"/>
            <a:ext cx="3857760" cy="2544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928800" y="64440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Quel phénomène a pu provoquer cela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ZoneTexte 6"/>
          <p:cNvSpPr/>
          <p:nvPr/>
        </p:nvSpPr>
        <p:spPr>
          <a:xfrm>
            <a:off x="7500960" y="4000680"/>
            <a:ext cx="12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BoredPanda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857840" y="62874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Haïti: Palais national avant séisme et après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Source :  AP, AFP, BBC, 13 janvier 2010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928800" y="1728720"/>
            <a:ext cx="7929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classe entièr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pporter la réponse à la question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mpléter la fiche 1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1000080" y="2196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is, qu’ont inventé les ingénieur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our amortir les secousses sismiqu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ur les bâtiments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97" name="Picture 2" descr="Vue aérienne d'un immeuble effondré après le séisme du 20 septembre à Mexico"/>
          <p:cNvPicPr/>
          <p:nvPr/>
        </p:nvPicPr>
        <p:blipFill>
          <a:blip r:embed="rId1"/>
          <a:stretch/>
        </p:blipFill>
        <p:spPr>
          <a:xfrm>
            <a:off x="1428840" y="1643040"/>
            <a:ext cx="6715080" cy="45417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715000" y="62157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éisme du 20 septembre à Mexico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Photo - AFP - Mario VAZQUEZ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1000080" y="1936800"/>
            <a:ext cx="792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1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eul, trouver une solution à la question en la représentant sous forme de croquis ou de schéma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000080" y="40770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2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ar équipe, mettre en commun les solutions à la question en sélectionner un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2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928800" y="1736280"/>
            <a:ext cx="7929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Equi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onter la manipulation de la fiche 2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vec le matériel propos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Réaliser la solution proposée par l’équipe sur le bâtiment B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928800" y="7160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tériel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4" name="Image 2" descr=""/>
          <p:cNvPicPr/>
          <p:nvPr/>
        </p:nvPicPr>
        <p:blipFill>
          <a:blip r:embed="rId1"/>
          <a:stretch/>
        </p:blipFill>
        <p:spPr>
          <a:xfrm>
            <a:off x="5929200" y="1643040"/>
            <a:ext cx="2214720" cy="1571760"/>
          </a:xfrm>
          <a:prstGeom prst="rect">
            <a:avLst/>
          </a:prstGeom>
          <a:ln w="0">
            <a:noFill/>
          </a:ln>
        </p:spPr>
      </p:pic>
      <p:pic>
        <p:nvPicPr>
          <p:cNvPr id="105" name="Image 5" descr="D:\philippe collège\B InSight\activité sismo proposition\20190420_180909.jpg"/>
          <p:cNvPicPr/>
          <p:nvPr/>
        </p:nvPicPr>
        <p:blipFill>
          <a:blip r:embed="rId2"/>
          <a:stretch/>
        </p:blipFill>
        <p:spPr>
          <a:xfrm>
            <a:off x="1571760" y="1643040"/>
            <a:ext cx="2193840" cy="1589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06" name="Image 7" descr="D:\philippe collège\B InSight\activité sismo proposition\20190421_191725.jpg"/>
          <p:cNvPicPr/>
          <p:nvPr/>
        </p:nvPicPr>
        <p:blipFill>
          <a:blip r:embed="rId3"/>
          <a:stretch/>
        </p:blipFill>
        <p:spPr>
          <a:xfrm>
            <a:off x="3786120" y="1643040"/>
            <a:ext cx="2154240" cy="157788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7" name="Text Box 3"/>
          <p:cNvSpPr/>
          <p:nvPr/>
        </p:nvSpPr>
        <p:spPr>
          <a:xfrm>
            <a:off x="2571840" y="2928960"/>
            <a:ext cx="19476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2 blocs de béton cellulair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8" name="Image 10" descr=""/>
          <p:cNvPicPr/>
          <p:nvPr/>
        </p:nvPicPr>
        <p:blipFill>
          <a:blip r:embed="rId4"/>
          <a:stretch/>
        </p:blipFill>
        <p:spPr>
          <a:xfrm>
            <a:off x="1571760" y="3214800"/>
            <a:ext cx="221436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2643120" y="450072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Sabl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0" name="Image 11" descr="https://www.luxibio.com/880-large_default/pate-a-modeler-bio-cire-d-abeille.jpg"/>
          <p:cNvPicPr/>
          <p:nvPr/>
        </p:nvPicPr>
        <p:blipFill>
          <a:blip r:embed="rId5"/>
          <a:stretch/>
        </p:blipFill>
        <p:spPr>
          <a:xfrm>
            <a:off x="3786120" y="3214800"/>
            <a:ext cx="214308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4286160" y="4500720"/>
            <a:ext cx="15512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âte à modeler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2" name="Image 13" descr=""/>
          <p:cNvPicPr/>
          <p:nvPr/>
        </p:nvPicPr>
        <p:blipFill>
          <a:blip r:embed="rId6"/>
          <a:stretch/>
        </p:blipFill>
        <p:spPr>
          <a:xfrm>
            <a:off x="5929200" y="3214800"/>
            <a:ext cx="221472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429240" y="450072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4" name="Image 16" descr="D:\philippe collège\B InSight\activité sismo proposition\P1010776.JPG"/>
          <p:cNvPicPr/>
          <p:nvPr/>
        </p:nvPicPr>
        <p:blipFill>
          <a:blip r:embed="rId7"/>
          <a:stretch/>
        </p:blipFill>
        <p:spPr>
          <a:xfrm>
            <a:off x="1571760" y="4786200"/>
            <a:ext cx="2214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5" name="Image 17" descr="D:\philippe collège\B InSight\activité sismo proposition\P1010777.JPG"/>
          <p:cNvPicPr/>
          <p:nvPr/>
        </p:nvPicPr>
        <p:blipFill>
          <a:blip r:embed="rId8"/>
          <a:stretch/>
        </p:blipFill>
        <p:spPr>
          <a:xfrm>
            <a:off x="3786120" y="4786200"/>
            <a:ext cx="1071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6" name="Image 18" descr="D:\philippe collège\B InSight\activité sismo proposition\P1010778.JPG"/>
          <p:cNvPicPr/>
          <p:nvPr/>
        </p:nvPicPr>
        <p:blipFill>
          <a:blip r:embed="rId9"/>
          <a:stretch/>
        </p:blipFill>
        <p:spPr>
          <a:xfrm>
            <a:off x="4857840" y="4786200"/>
            <a:ext cx="1071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7" name="Text Box 3"/>
          <p:cNvSpPr/>
          <p:nvPr/>
        </p:nvSpPr>
        <p:spPr>
          <a:xfrm>
            <a:off x="2428920" y="6143760"/>
            <a:ext cx="13050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laquettes de boi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07196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9" name="Picture 18" descr="Toron de 3 fils rigides 3G 2.5mm² 100m"/>
          <p:cNvPicPr/>
          <p:nvPr/>
        </p:nvPicPr>
        <p:blipFill>
          <a:blip r:embed="rId10"/>
          <a:stretch/>
        </p:blipFill>
        <p:spPr>
          <a:xfrm>
            <a:off x="5929200" y="4786200"/>
            <a:ext cx="2214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20" name="Text Box 4"/>
          <p:cNvSpPr/>
          <p:nvPr/>
        </p:nvSpPr>
        <p:spPr>
          <a:xfrm>
            <a:off x="650088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Fil de fer ou électriqu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072200" y="292896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Capteur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1071720" y="428760"/>
            <a:ext cx="7715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e l’activit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A construire avec les élèves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214280" y="2000160"/>
            <a:ext cx="757260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Lors de cette séance, 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recherché et proposé des idé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afin d’amortir une secousse sismique sur un bâtiment que nous avons représentée sous la forme d’un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roqui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onçu et produit une maquette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de la solution technologique que nous avons retenue</a:t>
            </a:r>
            <a:r>
              <a:rPr b="0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3:59:41Z</dcterms:created>
  <dc:creator>PhT</dc:creator>
  <dc:description/>
  <dc:language>en-US</dc:language>
  <cp:lastModifiedBy>pht</cp:lastModifiedBy>
  <dcterms:modified xsi:type="dcterms:W3CDTF">2019-04-29T19:25:19Z</dcterms:modified>
  <cp:revision>186</cp:revision>
  <dc:subject/>
  <dc:title>SYNTHESE Recherche de solutions</dc:title>
</cp:coreProperties>
</file>